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E3C-B6C4-449F-BEA7-A57B5D4D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5F3-C249-4226-B726-A5D3F30D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35D-C2C0-4AF7-BB32-1E16AB54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8B7-C21C-47E7-8FCA-FBC9FB7B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6954A-5562-4588-B9CE-6E1C83A2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5DFF1-1156-488C-A692-95FBF033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6C8DE-27DD-4816-A5D9-214F28D2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AD31C-FF99-4CB0-8155-8A539C56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E4E54-93EC-4D04-AC6F-F45CB7BF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FCF91-D46E-43AB-A69A-031AE3FE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C1A81-9EF7-440E-A573-0F7CBB78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40B-6ED3-4B2D-B932-ADFF46B4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44FC3-FA47-49E5-8ECE-C48306CB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71A7A-3F99-470E-B4F6-66BA3069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590CA-E124-4B30-8168-247E3198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B2A78-02E3-47C6-8AC7-E84DF187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AB9CC-E2C2-4327-B75D-84CC0414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6511B-5954-44D9-A110-C4FD92F4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582D1-DA4D-427C-841A-D1CBF651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E2ADA-FAD5-4339-B721-177C42AF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23A77-B358-45C8-8C94-EC87BCC3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6A109-AC23-4094-A69C-FFA2A23C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AF8-7DFB-4128-BA6F-72681A5F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2825E-0759-4E15-B8DD-964562C2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FCC4D-5DDD-455B-8992-7ADAAAEE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64B8D-6D4D-44AD-A589-C5CE0EFC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287D3-03B1-4A0F-B2D6-FFE0B9AC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043B4-8AA5-42C2-817D-3C9AA1AB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639DA-C2BB-4196-8590-6DC61206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13BBE-56E3-4727-9189-201AC64C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1B5F7-9B81-4FD3-A61A-FFAE7AFA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E2DC-B65E-480E-B162-121DB786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91C9C-3298-4A59-BBD9-B674CE7B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1EE-5B75-49D0-9A8B-9E289359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F861-0E52-413A-B330-EAFA52D5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FBD99-F2B0-4BAD-8E4A-9F351B51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7D8EE-5A1D-45A9-9182-FA7ABBBF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14889-E24D-47C8-80CD-09045AE9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8A43C-BF9A-4711-B5A8-31807D13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6973E-24AC-4AB9-8C32-582D0BF9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E5F76-5844-4326-9C32-AC8FF314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03F1A-0E26-446A-969A-F5F9303B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0E098-0F84-4BC2-AE6B-C3C7FEF3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5EF-AFD1-434B-B943-8D8F7FBB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AC2-E89F-445B-BCDF-EA105F39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271-4834-45F0-B837-1EA4A0A5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14E-ECD2-4CC9-9567-84FD33C1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5FD-CF11-4006-8688-671CC17B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8F84-7F83-41C0-8626-9D6680D47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501C-6C68-4C51-8AEC-AD3ABCC9E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2055-AC1F-4BD0-AAA2-5E553E986CC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EC89-D83C-482C-BF53-01FC35C624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a cas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Isabella Aij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a man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man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 una grande y magnifico man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2994120"/>
            <a:ext cx="5105520" cy="3397320"/>
          </a:xfrm>
          <a:prstGeom prst="rect">
            <a:avLst/>
          </a:prstGeom>
          <a:ln w="0">
            <a:noFill/>
          </a:ln>
        </p:spPr>
      </p:pic>
    </p:spTree>
  </p:cSld>
  <p:transition advTm="14000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 cocin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ocina. Es un  pequeña y modern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3314880" cy="4419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2004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a sa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sala. Es un grande y nuev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 comedo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743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omed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a  comedor son once ventan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 bañ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baño. Es un gran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238880" y="3581280"/>
            <a:ext cx="1463760" cy="2438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514600" y="2514600"/>
            <a:ext cx="4762440" cy="3552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ati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36440" y="1936800"/>
            <a:ext cx="184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17:44Z</dcterms:created>
  <dc:creator>aijoisa</dc:creator>
  <dc:description/>
  <dc:language>en-US</dc:language>
  <cp:lastModifiedBy>aijoisa</cp:lastModifiedBy>
  <dcterms:modified xsi:type="dcterms:W3CDTF">2013-04-04T17:30:24Z</dcterms:modified>
  <cp:revision>9</cp:revision>
  <dc:subject/>
  <dc:title>La casa</dc:title>
</cp:coreProperties>
</file>